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5e66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FAA8-3C9B-41E2-9D3F-941510DA5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5B51-9245-4A85-AC95-8602D82512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7DB7-0AB6-4339-B6AE-9533A498887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6091-A72B-4D6C-9D39-1774FABA27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50D9-3078-4A9E-9135-3E611D1A95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D5FB-FCD9-48E0-BC31-5DEFF5D615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5AF7-80B2-4A75-91A1-A35D543318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D588-ED66-4705-9E9C-F8D6D0F3AB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2B87-14A2-49FE-BC1B-1B7468220F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95F4-FD05-4DFB-BA65-BAE2EC6AEC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FC62-D09E-45DB-AE9F-0C25091DD1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2343-2FB4-4C6E-A2D0-24413E867E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83BB-BAE1-42AF-A0E7-966B985730B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9C87-7E74-49BA-97C5-01038D89C8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60BB-8614-4F2A-8614-A2D5142E050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7C51-6EB8-479A-A436-090E526476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190E-4B1D-4DCB-A052-85B4B2D5D8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D94F-F0FB-4857-A2AB-8561F4F417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D2D8-0E79-4DCD-A7B6-31111B6975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8E31-2FCB-4377-93C2-BF48700C9D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3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3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13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5e66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tretch/>
        </p:blipFill>
        <p:spPr>
          <a:xfrm>
            <a:off x="6432480" y="6327720"/>
            <a:ext cx="2316240" cy="4399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3"/>
          <p:cNvSpPr/>
          <p:nvPr/>
        </p:nvSpPr>
        <p:spPr>
          <a:xfrm>
            <a:off x="395280" y="6308640"/>
            <a:ext cx="56167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567a84"/>
                </a:solidFill>
                <a:latin typeface="Calibri"/>
              </a:rPr>
              <a:t>Εκπαίδευση Επιμορφωτών Β’ επιπέδου Τ.Π.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567a84"/>
                </a:solidFill>
                <a:latin typeface="Calibri"/>
              </a:rPr>
              <a:t>Συστάδα</a:t>
            </a:r>
            <a:r>
              <a:rPr b="0" lang="en-US" sz="1000" spc="-1" strike="noStrike">
                <a:solidFill>
                  <a:srgbClr val="567a84"/>
                </a:solidFill>
                <a:latin typeface="Calibri"/>
              </a:rPr>
              <a:t> 5</a:t>
            </a:r>
            <a:r>
              <a:rPr b="0" lang="el-GR" sz="1000" spc="-1" strike="noStrike">
                <a:solidFill>
                  <a:srgbClr val="567a84"/>
                </a:solidFill>
                <a:latin typeface="Calibri"/>
              </a:rPr>
              <a:t>:</a:t>
            </a:r>
            <a:r>
              <a:rPr b="0" lang="en-US" sz="1000" spc="-1" strike="noStrike">
                <a:solidFill>
                  <a:srgbClr val="567a84"/>
                </a:solidFill>
                <a:latin typeface="Calibri"/>
              </a:rPr>
              <a:t> </a:t>
            </a:r>
            <a:r>
              <a:rPr b="0" lang="el-GR" sz="1000" spc="-1" strike="noStrike">
                <a:solidFill>
                  <a:srgbClr val="567a84"/>
                </a:solidFill>
                <a:latin typeface="Calibri"/>
              </a:rPr>
              <a:t>Πρωτοβάθμια Εκπαίδευσ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5"/>
          <p:cNvSpPr/>
          <p:nvPr/>
        </p:nvSpPr>
        <p:spPr>
          <a:xfrm>
            <a:off x="8650440" y="6350040"/>
            <a:ext cx="529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Arial"/>
              </a:rPr>
              <a:t>- </a:t>
            </a:r>
            <a:fld id="{97E130D7-0902-4FF9-85CA-98E77BFF3DAC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l-GR" sz="11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24000" y="476280"/>
            <a:ext cx="828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567a84"/>
                </a:solidFill>
                <a:latin typeface="Calibri"/>
              </a:rPr>
              <a:t>Εκπαίδευση Επιμορφωτών Β’ επιπέδου Τ.Π.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567a84"/>
                </a:solidFill>
                <a:latin typeface="Calibri"/>
              </a:rPr>
              <a:t>Συστάδα</a:t>
            </a:r>
            <a:r>
              <a:rPr b="1" lang="en-US" sz="1400" spc="-1" strike="noStrike">
                <a:solidFill>
                  <a:srgbClr val="567a84"/>
                </a:solidFill>
                <a:latin typeface="Calibri"/>
              </a:rPr>
              <a:t> 5</a:t>
            </a:r>
            <a:r>
              <a:rPr b="1" lang="el-GR" sz="1400" spc="-1" strike="noStrike">
                <a:solidFill>
                  <a:srgbClr val="567a84"/>
                </a:solidFill>
                <a:latin typeface="Calibri"/>
              </a:rPr>
              <a:t>:</a:t>
            </a:r>
            <a:r>
              <a:rPr b="1" lang="en-US" sz="1400" spc="-1" strike="noStrike">
                <a:solidFill>
                  <a:srgbClr val="567a84"/>
                </a:solidFill>
                <a:latin typeface="Calibri"/>
              </a:rPr>
              <a:t> </a:t>
            </a:r>
            <a:r>
              <a:rPr b="1" lang="el-GR" sz="1400" spc="-1" strike="noStrike">
                <a:solidFill>
                  <a:srgbClr val="567a84"/>
                </a:solidFill>
                <a:latin typeface="Calibri"/>
              </a:rPr>
              <a:t>Πρωτοβάθμια Εκπαίδευσ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103320" y="5159520"/>
            <a:ext cx="896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ΕΠΙΜΟΡΦΩΣΗ ΕΚΠΑΙΔΕΥΤΙΚΩΝ </a:t>
            </a:r>
            <a:r>
              <a:rPr b="1" lang="el-GR" sz="1100" spc="-1" strike="noStrike">
                <a:solidFill>
                  <a:srgbClr val="000000"/>
                </a:solidFill>
                <a:latin typeface="Calibri"/>
              </a:rPr>
              <a:t>ΓΙΑ ΤΗΝ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ΑΞΙΟΠΟΙΗΣΗ ΚΑΙ ΕΦΑΡΜΟΓΗ ΤΩΝ ΨΗΦΙΑΚΩΝ ΤΕΧΝΟΛΟΓΙΩΝ ΣΤΗ ΔΙΔΑΚΤΙΚΗ ΠΡΑΞΗ (ΕΠΙΜΟΡΦΩΣΗ Β’ ΕΠΙΠΕΔΟΥ ΤΠΕ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/>
          <a:stretch/>
        </p:blipFill>
        <p:spPr>
          <a:xfrm>
            <a:off x="3976560" y="5848200"/>
            <a:ext cx="4988160" cy="9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79280" y="5661000"/>
            <a:ext cx="1152720" cy="1160640"/>
          </a:xfrm>
          <a:prstGeom prst="rect">
            <a:avLst/>
          </a:prstGeom>
          <a:ln w="0">
            <a:noFill/>
          </a:ln>
        </p:spPr>
      </p:pic>
      <p:pic>
        <p:nvPicPr>
          <p:cNvPr id="45" name="Εικόνα 1" descr="X:\αρχεία_για_όλους\logo_doc.png"/>
          <p:cNvPicPr/>
          <p:nvPr/>
        </p:nvPicPr>
        <p:blipFill>
          <a:blip r:embed="rId4"/>
          <a:stretch/>
        </p:blipFill>
        <p:spPr>
          <a:xfrm>
            <a:off x="1476360" y="6308640"/>
            <a:ext cx="2303640" cy="3571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4"/>
          <p:cNvSpPr/>
          <p:nvPr/>
        </p:nvSpPr>
        <p:spPr>
          <a:xfrm>
            <a:off x="258840" y="5626080"/>
            <a:ext cx="8705880" cy="0"/>
          </a:xfrm>
          <a:prstGeom prst="line">
            <a:avLst/>
          </a:prstGeom>
          <a:ln w="9360">
            <a:solidFill>
              <a:srgbClr val="909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7"/>
          <p:cNvSpPr/>
          <p:nvPr/>
        </p:nvSpPr>
        <p:spPr>
          <a:xfrm>
            <a:off x="258840" y="5084640"/>
            <a:ext cx="8705880" cy="0"/>
          </a:xfrm>
          <a:prstGeom prst="line">
            <a:avLst/>
          </a:prstGeom>
          <a:ln w="9360">
            <a:solidFill>
              <a:srgbClr val="909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8"/>
          <p:cNvSpPr/>
          <p:nvPr/>
        </p:nvSpPr>
        <p:spPr>
          <a:xfrm>
            <a:off x="324000" y="1268280"/>
            <a:ext cx="8705880" cy="0"/>
          </a:xfrm>
          <a:prstGeom prst="line">
            <a:avLst/>
          </a:prstGeom>
          <a:ln w="9360">
            <a:solidFill>
              <a:srgbClr val="909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3"/>
          <p:cNvSpPr/>
          <p:nvPr/>
        </p:nvSpPr>
        <p:spPr>
          <a:xfrm>
            <a:off x="6043680" y="4724280"/>
            <a:ext cx="281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567a84"/>
                </a:solidFill>
                <a:latin typeface="Calibri"/>
              </a:rPr>
              <a:t>Επιμορφωτικό υλικό: Ειδικό Μέρο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5e66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"/>
          <p:cNvPicPr/>
          <p:nvPr/>
        </p:nvPicPr>
        <p:blipFill>
          <a:blip r:embed="rId2"/>
          <a:stretch/>
        </p:blipFill>
        <p:spPr>
          <a:xfrm>
            <a:off x="6432480" y="6327720"/>
            <a:ext cx="2316240" cy="439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395280" y="6308640"/>
            <a:ext cx="56167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567a84"/>
                </a:solidFill>
                <a:latin typeface="Calibri"/>
              </a:rPr>
              <a:t>Εκπαίδευση Επιμορφωτών Β’ επιπέδου Τ.Π.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567a84"/>
                </a:solidFill>
                <a:latin typeface="Calibri"/>
              </a:rPr>
              <a:t>Συστάδα</a:t>
            </a:r>
            <a:r>
              <a:rPr b="0" lang="en-US" sz="1000" spc="-1" strike="noStrike">
                <a:solidFill>
                  <a:srgbClr val="567a84"/>
                </a:solidFill>
                <a:latin typeface="Calibri"/>
              </a:rPr>
              <a:t> 5</a:t>
            </a:r>
            <a:r>
              <a:rPr b="0" lang="el-GR" sz="1000" spc="-1" strike="noStrike">
                <a:solidFill>
                  <a:srgbClr val="567a84"/>
                </a:solidFill>
                <a:latin typeface="Calibri"/>
              </a:rPr>
              <a:t>:</a:t>
            </a:r>
            <a:r>
              <a:rPr b="0" lang="en-US" sz="1000" spc="-1" strike="noStrike">
                <a:solidFill>
                  <a:srgbClr val="567a84"/>
                </a:solidFill>
                <a:latin typeface="Calibri"/>
              </a:rPr>
              <a:t> </a:t>
            </a:r>
            <a:r>
              <a:rPr b="0" lang="el-GR" sz="1000" spc="-1" strike="noStrike">
                <a:solidFill>
                  <a:srgbClr val="567a84"/>
                </a:solidFill>
                <a:latin typeface="Calibri"/>
              </a:rPr>
              <a:t>Πρωτοβάθμια Εκπαίδευσ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8650440" y="6350040"/>
            <a:ext cx="529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Arial"/>
              </a:rPr>
              <a:t>- </a:t>
            </a:r>
            <a:fld id="{EF90A051-4479-4793-A115-E70344F0929D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l-GR" sz="11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8650440" y="6350040"/>
            <a:ext cx="5299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100" spc="-1" strike="noStrike">
                <a:solidFill>
                  <a:srgbClr val="000000"/>
                </a:solidFill>
                <a:latin typeface="Arial"/>
              </a:rPr>
              <a:t>- </a:t>
            </a:r>
            <a:fld id="{74402EF2-F2B9-49B8-9C87-ADCCD6612D17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l-GR" sz="11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5e66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724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e5e66"/>
                </a:solidFill>
                <a:latin typeface="Calibri"/>
              </a:rPr>
              <a:t>Διδακτική του γνωστικού αντικειμένου </a:t>
            </a:r>
            <a:br>
              <a:rPr sz="2800"/>
            </a:br>
            <a:r>
              <a:rPr b="1" lang="el-GR" sz="2800" spc="-1" strike="noStrike">
                <a:solidFill>
                  <a:srgbClr val="3e5e66"/>
                </a:solidFill>
                <a:latin typeface="Calibri"/>
              </a:rPr>
              <a:t>με αξιοποίηση ΤΠΕ</a:t>
            </a:r>
            <a:endParaRPr b="1" lang="en-US" sz="28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3040" y="3213000"/>
            <a:ext cx="6400800" cy="14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Βασικά στοιχεία της εξέλιξης της επιστήμης και των εργαλείων ΤΠΕ για τη μάθηση των επιμέρους γνωστικών αντικειμένω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e5e66"/>
                </a:solidFill>
                <a:latin typeface="Calibri"/>
              </a:rPr>
              <a:t>Εφαρμογή συμπεριφορισμού: Λογισμικά «κλειστού» τύπου (2)</a:t>
            </a:r>
            <a:endParaRPr b="1" lang="en-US" sz="36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5640" y="1699920"/>
            <a:ext cx="79344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Εκπαιδευτικά λογισμικά που αναλαμβάνουν εν μέρει ή εξ ολοκλήρο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την 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Verdana"/>
              </a:rPr>
              <a:t>παροχή πληροφοριών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τη 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Verdana"/>
              </a:rPr>
              <a:t>διδασκαλία των εννοιών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και συνεπώς όλη την προσέγγιση της διδακτέας ύλης σε ένα συγκεκριμένο γνωστικό αντικείμενο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Εμπεριέχουν, ως εγγενές τμήμα τους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ια διαδικασία αξιολόγησης των γνώσεων και των δεξιοτήτων που αποκτήθηκαν από τους μαθητές μετά το πέρας της χρησιμοποίησής του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θετική ή αρνητική επιβράβευση για το αποτέλεσμ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56800" y="1700280"/>
            <a:ext cx="80773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Λογισμικό Καθοδήγησης ή Διδασκαλία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Πλήρες σύστημα με παροχή πληροφοριών και γνώσεων και πρακτική εξάσκηση για την αξιολόγηση αυτών των γνώσεω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Π.χ. </a:t>
            </a:r>
            <a:r>
              <a:rPr b="0" lang="el-GR" sz="2000" spc="-1" strike="noStrike">
                <a:solidFill>
                  <a:srgbClr val="ff0000"/>
                </a:solidFill>
                <a:latin typeface="Verdana"/>
              </a:rPr>
              <a:t>ηλεκτρονικό βιβλίο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ε θεωρία και ερωτήσεις πάνω στη θεωρί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Λογισμικό Εξάσκησης και Πρακτική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Περιέχει μόνο το μέρος της διαδικασίας αξιολόγησης των γνώσεων και των δεξιοτήτων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π.χ. </a:t>
            </a:r>
            <a:r>
              <a:rPr b="0" lang="el-GR" sz="2000" spc="-1" strike="noStrike">
                <a:solidFill>
                  <a:srgbClr val="ff0000"/>
                </a:solidFill>
                <a:latin typeface="Verdana"/>
              </a:rPr>
              <a:t>τεστ γνώσεων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ε ερωτήσεις σωστού/λάθους, συμπλήρωσης ή πολλαπλής επιλογή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Βασικές κατηγορίες λογισμικών «κλειστού» τύπου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Γνωστική Ψυχολογία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Δεν θα μας απασχολήσει στο εργαστήριο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Βασική εφαρμογή: Τεχνητή Νοημοσύνη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Εποικοδομισμός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360" y="144756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Μάθηση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: η τροποποίηση του προϋπαρχουσών γνώσεω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Στόχος της </a:t>
            </a: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διδασκαλίας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: η δημιουργία κατάλληλου και πλούσιου περιβάλλοντο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Βασικοί εκπρόσωπο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iaget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runer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ape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1474920" y="5210280"/>
            <a:ext cx="1133280" cy="1019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4154400" y="5172120"/>
            <a:ext cx="847800" cy="1057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3"/>
          <a:stretch/>
        </p:blipFill>
        <p:spPr>
          <a:xfrm>
            <a:off x="6804000" y="5165640"/>
            <a:ext cx="92880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Η </a:t>
            </a: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μάθηση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 είναι ατομική διαδικασία οικοδόμησης γνώσεω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Το νόημα αποκτάται μέσω εμπειριώ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Η μάθηση δεν είναι αποστήθιση εννοιών ή γεγονότων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Βασική αρχή του εποικοδομισμού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e5e66"/>
                </a:solidFill>
                <a:latin typeface="Calibri"/>
              </a:rPr>
              <a:t>Η αλληλεπίδραση με το περιβάλλον</a:t>
            </a:r>
            <a:endParaRPr b="1" lang="en-US" sz="3600" spc="-1" strike="noStrike">
              <a:solidFill>
                <a:srgbClr val="3e5e66"/>
              </a:solidFill>
              <a:latin typeface="Calibri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7259760" y="5157720"/>
            <a:ext cx="1304640" cy="981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1071720" y="1928880"/>
            <a:ext cx="50004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Η μάθηση λαμβάνει χώρα μέσα από δραστηριότητε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διερεύνησης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ανακάλυψης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πειραματισμού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και επίλυσης προβλήματο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7091280" y="1368360"/>
            <a:ext cx="1643040" cy="1567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3"/>
          <a:stretch/>
        </p:blipFill>
        <p:spPr>
          <a:xfrm>
            <a:off x="4965840" y="304020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Λογισμικά «ανοικτού» τύπου (1)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11280" y="1773000"/>
            <a:ext cx="79344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Περιβάλλοντα υπερμέσων, προσομοίωση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Θεωρία μάθησης: </a:t>
            </a:r>
            <a:r>
              <a:rPr b="1" lang="el-GR" sz="2800" spc="-1" strike="noStrike">
                <a:solidFill>
                  <a:srgbClr val="ff0000"/>
                </a:solidFill>
                <a:latin typeface="Verdana"/>
              </a:rPr>
              <a:t>Εποικοδομισμό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Διδακτικό μοντέλο: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Verdana"/>
              </a:rPr>
              <a:t>η γνώση οικοδομείται από τον ίδιο το μαθητ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Ο υπολογιστής είναι εργαλείο για το μαθητή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Ο δάσκαλος είναι σύμβουλος ή βοηθό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Λογισμικά «ανοικτού» τύπου (2)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9640" y="1773360"/>
            <a:ext cx="79344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Πρόκειται για υπολογιστικά περιβάλλοντα μάθησης τα οποία ευνοούν τη </a:t>
            </a:r>
            <a:r>
              <a:rPr b="0" lang="el-GR" sz="2400" spc="-1" strike="noStrike">
                <a:solidFill>
                  <a:srgbClr val="ff0000"/>
                </a:solidFill>
                <a:latin typeface="Verdana"/>
              </a:rPr>
              <a:t>διερεύνηση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,  την </a:t>
            </a:r>
            <a:r>
              <a:rPr b="0" lang="el-GR" sz="2400" spc="-1" strike="noStrike">
                <a:solidFill>
                  <a:srgbClr val="ff0000"/>
                </a:solidFill>
                <a:latin typeface="Verdana"/>
              </a:rPr>
              <a:t>ανακάλυψη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και την </a:t>
            </a:r>
            <a:r>
              <a:rPr b="0" lang="el-GR" sz="2400" spc="-1" strike="noStrike">
                <a:solidFill>
                  <a:srgbClr val="ff0000"/>
                </a:solidFill>
                <a:latin typeface="Verdana"/>
              </a:rPr>
              <a:t>οικοδόμηση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της γνώση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Ο μαθητής χρησιμοποιεί το περιβάλλον ως εργαλείο, διερευνώντας τα «αντικείμενα» που περιέχε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και ανακαλύπτει πληροφορίες και γεγονότα, κατανοεί έννοιες και τις συσχετίζει μεταξύ τους, με άλλα λόγια οικοδομεί γνώσεις μέσω </a:t>
            </a:r>
            <a:r>
              <a:rPr b="0" lang="el-GR" sz="2400" spc="-1" strike="noStrike">
                <a:solidFill>
                  <a:srgbClr val="ff0000"/>
                </a:solidFill>
                <a:latin typeface="Verdana"/>
              </a:rPr>
              <a:t>πειραματισμού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και </a:t>
            </a:r>
            <a:r>
              <a:rPr b="0" lang="el-GR" sz="2400" spc="-1" strike="noStrike">
                <a:solidFill>
                  <a:srgbClr val="ff0000"/>
                </a:solidFill>
                <a:latin typeface="Verdana"/>
              </a:rPr>
              <a:t>επίλυσης προβλημάτω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56800" y="1773000"/>
            <a:ext cx="807732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Υπάρχουν πολλές κατηγορίες λογισμικο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«ανοικτού» τύπου, με πιο χαρακτηριστικέ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Υπερμέσα (π.χ. ψηφιακές εγκυκλοπαίδειες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Κόμβοι πληροφοριών συνδεμένοι με πολλαπλούς τρόπους. Ο χρήστης πλοηγείται ανάμεσα στους κόμβους χρησιμοποιώντας τους συνδέσμου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Προσομοιώσει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Μίμηση της συμπεριφοράς ενός συστήματος από ένα άλλο σύστημα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Verdana"/>
              </a:rPr>
              <a:t>ένα μοντέλο κάποιου φαινομένου ή κάποιας δραστηριότητας, το οποίο οι χρήστες χρησιμοποιούν και μαθαίνουν μέσω της αλληλεπίδραση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Βασικές κατηγορίες λογισμικών «ανοικτού» τύπου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Κοινωνικοπολιτισμική θεωρία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Η μάθηση είναι ένα ιστορικό, κοινωνικό και πολιτιστικό φαινόμεν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Λαμβάνει χώρα σε ένα πλούσιο περιβάλλον από κοινωνικές αλληλεπιδράσει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000" spc="-1" strike="noStrike">
                <a:solidFill>
                  <a:srgbClr val="3e5e66"/>
                </a:solidFill>
                <a:latin typeface="Calibri"/>
              </a:rPr>
              <a:t>Σκοπός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71360" y="1213920"/>
            <a:ext cx="786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Συνοπτική παρουσίασ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Βασικών αρχών από τις πιο διαδεδομένες θεωρίες μάθηση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Επίδρασης των θεωριών αυτών στη σχεδίαση εκπαιδευτικών εφαρμογών με υπολογιστέ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Επιρροής των θεωριών αυτών στην ένταξη και τη χρήση των ΤΠΕ στην εκπαίδευσ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4920" y="162828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Τα περιβάλλοντα συνεργατικής μάθησης (collaboration learning) αποτελούν ειδικές εφαρμογές βασισμένες στο Διαδίκτυο που επιτρέπουν την ανθρώπινη επικοινωνία και αλληλεπίδραση με στόχο τη μάθησ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Η συνεργασία μπορεί να είναι σύγχρονη ή ασύγχρον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Κλασσικό παράδειγμα το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Moo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Λογισμικά συνεργατικής μάθησης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4000" spc="-1" strike="noStrike">
                <a:solidFill>
                  <a:srgbClr val="3e5e66"/>
                </a:solidFill>
                <a:latin typeface="Calibri"/>
              </a:rPr>
              <a:t>Έννοιες – Κλειδιά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071720" y="1447920"/>
          <a:ext cx="7862760" cy="4767120"/>
        </p:xfrm>
        <a:graphic>
          <a:graphicData uri="http://schemas.openxmlformats.org/drawingml/2006/table">
            <a:tbl>
              <a:tblPr/>
              <a:tblGrid>
                <a:gridCol w="3931920"/>
                <a:gridCol w="3930840"/>
              </a:tblGrid>
              <a:tr h="47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υμπεριφοριστική θεωρ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Γνωστικές θεωρίε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πεξεργασία της πληροφορία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ποικοδομισμό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Κοινωνικός εποικοδομισμό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Κοινωνικοπολιτισμικές θεωρί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Ανακαλυπτική μάθηση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Διερευνητική μάθη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1f28"/>
                      </a:solidFill>
                    </a:lnL>
                    <a:lnR w="5760">
                      <a:solidFill>
                        <a:srgbClr val="da1f28"/>
                      </a:solidFill>
                    </a:lnR>
                    <a:lnT w="5760">
                      <a:solidFill>
                        <a:srgbClr val="da1f28"/>
                      </a:solidFill>
                    </a:lnT>
                    <a:lnB w="5760">
                      <a:solidFill>
                        <a:srgbClr val="da1f28"/>
                      </a:solidFill>
                    </a:lnB>
                    <a:solidFill>
                      <a:srgbClr val="f8e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Προγραμματισμένη διδασκαλί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κπαιδευτικό λογισμικ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Κλειστό» εκπαιδευτικό λογισμικ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ανοικτό» εκπαιδευτικό λογισμικ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Συνεργατικό εκπαιδευτικό λογισμικ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a1f28"/>
                      </a:solidFill>
                    </a:lnL>
                    <a:lnR w="5760">
                      <a:solidFill>
                        <a:srgbClr val="da1f28"/>
                      </a:solidFill>
                    </a:lnR>
                    <a:lnT w="5760">
                      <a:solidFill>
                        <a:srgbClr val="da1f28"/>
                      </a:solidFill>
                    </a:lnT>
                    <a:lnB w="5760">
                      <a:solidFill>
                        <a:srgbClr val="da1f28"/>
                      </a:solidFill>
                    </a:lnB>
                    <a:solidFill>
                      <a:srgbClr val="f8e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Θεωρίες μάθησης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Verdana"/>
              </a:rPr>
              <a:t>Παρατήρηση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: δεν υπάρχει ενιαία θεωρία που να περιγράφει το πώς μαθαίνουμ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1680" y="1643040"/>
          <a:ext cx="8572320" cy="3286080"/>
        </p:xfrm>
        <a:graphic>
          <a:graphicData uri="http://schemas.openxmlformats.org/drawingml/2006/table">
            <a:tbl>
              <a:tblPr/>
              <a:tblGrid>
                <a:gridCol w="2857320"/>
                <a:gridCol w="2857680"/>
                <a:gridCol w="2857320"/>
              </a:tblGrid>
              <a:tr h="2081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Συμπεριφοριστικές θεωρί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Γνωστικές θεωρί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γνωστική ψυχολογία &amp; εποικοδομισμός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Κοινωνικές και πολιτισμικές θεωρί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κοινωνικός εποικοδομισμός,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204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κπρόσωποι: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vlov, Skinner, Crowder, Gagn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κπρόσωποι: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aget, Papert, Bruner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και γνωστικοί ψυχολόγο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Εκπρόσωποι: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uner,  Vygots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Συμπεριφορισμός 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6920" y="1125000"/>
            <a:ext cx="7648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Μάθηση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: τροποποίηση της εξωτερικής συμπεριφορά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Στόχος της </a:t>
            </a: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διδασκαλίας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: η επίτευξη της επιθυμητής συμπεριφοράς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Βασικοί εκπρόσωπο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avlov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l-G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kinn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5" descr="skinner"/>
          <p:cNvPicPr/>
          <p:nvPr/>
        </p:nvPicPr>
        <p:blipFill>
          <a:blip r:embed="rId1"/>
          <a:stretch/>
        </p:blipFill>
        <p:spPr>
          <a:xfrm>
            <a:off x="6715080" y="4857840"/>
            <a:ext cx="1714680" cy="1317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1714680" y="4857840"/>
            <a:ext cx="16430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Βασική αρχή συμπεριφορισμού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174320"/>
            <a:ext cx="8501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Μοντέλο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imuli – Respon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Το υποκείμενο μέσω εξάσκησης δημιουργεί συνδέσεις ανάμεσα στα εξωτερικά ερεθίσματα και τη συμπεριφορά το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Verdana"/>
              </a:rPr>
              <a:t>Επιθυμητή συμπεριφορά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: Θετική ενίσχυση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Verdana"/>
              </a:rPr>
              <a:t>Μη επιθυμητική συμπεριφορά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: Αρνητική ενίσχυση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793800" y="3321000"/>
            <a:ext cx="2563920" cy="64260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Περιβάλλο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6009480" y="3284640"/>
            <a:ext cx="2541240" cy="642600"/>
          </a:xfrm>
          <a:prstGeom prst="rect">
            <a:avLst/>
          </a:prstGeom>
          <a:noFill/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Arial"/>
              </a:rPr>
              <a:t>Υποκείμεν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Arrow 11"/>
          <p:cNvSpPr/>
          <p:nvPr/>
        </p:nvSpPr>
        <p:spPr>
          <a:xfrm>
            <a:off x="3500280" y="2500200"/>
            <a:ext cx="2500560" cy="9288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fffff"/>
          </a:solidFill>
          <a:ln w="255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Είσοδος: </a:t>
            </a:r>
            <a:r>
              <a:rPr b="0" lang="el-GR" sz="1800" spc="-1" strike="noStrike">
                <a:solidFill>
                  <a:srgbClr val="ff0000"/>
                </a:solidFill>
                <a:latin typeface="Calibri"/>
              </a:rPr>
              <a:t>Ερεθίσμα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ight Arrow 12"/>
          <p:cNvSpPr/>
          <p:nvPr/>
        </p:nvSpPr>
        <p:spPr>
          <a:xfrm flipH="1">
            <a:off x="3357720" y="3786120"/>
            <a:ext cx="2714400" cy="92880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fffff"/>
          </a:solidFill>
          <a:ln w="25560">
            <a:solidFill>
              <a:srgbClr val="7d3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Έξοδος: </a:t>
            </a:r>
            <a:r>
              <a:rPr b="0" lang="el-GR" sz="1800" spc="-1" strike="noStrike">
                <a:solidFill>
                  <a:srgbClr val="ff0000"/>
                </a:solidFill>
                <a:latin typeface="Calibri"/>
              </a:rPr>
              <a:t>Συμπεριφορ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Up-Down Arrow 13"/>
          <p:cNvSpPr/>
          <p:nvPr/>
        </p:nvSpPr>
        <p:spPr>
          <a:xfrm>
            <a:off x="4929120" y="3357720"/>
            <a:ext cx="214560" cy="571320"/>
          </a:xfrm>
          <a:prstGeom prst="upDownArrow">
            <a:avLst>
              <a:gd name="adj1" fmla="val 50000"/>
              <a:gd name="adj2" fmla="val 49926"/>
            </a:avLst>
          </a:prstGeom>
          <a:gradFill rotWithShape="0">
            <a:gsLst>
              <a:gs pos="0">
                <a:srgbClr val="91cfe8"/>
              </a:gs>
              <a:gs pos="100000">
                <a:srgbClr val="dfeff6"/>
              </a:gs>
            </a:gsLst>
            <a:lin ang="5400000"/>
          </a:gra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e5e66"/>
                </a:solidFill>
                <a:latin typeface="Calibri"/>
              </a:rPr>
              <a:t>Το σκυλί του Παβλώφ </a:t>
            </a:r>
            <a:endParaRPr b="1" lang="en-US" sz="4000" spc="-1" strike="noStrike">
              <a:solidFill>
                <a:srgbClr val="3e5e66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214280" y="1571760"/>
            <a:ext cx="3214800" cy="1428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5214960" y="1571760"/>
            <a:ext cx="3214800" cy="135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3"/>
          <a:stretch/>
        </p:blipFill>
        <p:spPr>
          <a:xfrm>
            <a:off x="1143000" y="4143240"/>
            <a:ext cx="3286080" cy="1428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4"/>
          <a:stretch/>
        </p:blipFill>
        <p:spPr>
          <a:xfrm>
            <a:off x="5286240" y="4143240"/>
            <a:ext cx="3214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e5e66"/>
                </a:solidFill>
                <a:latin typeface="Calibri"/>
              </a:rPr>
              <a:t>Πως λειτουργεί ένα λογισμικό κλειστού τύπου;</a:t>
            </a:r>
            <a:endParaRPr b="1" lang="en-US" sz="3600" spc="-1" strike="noStrike">
              <a:solidFill>
                <a:srgbClr val="3e5e66"/>
              </a:solidFill>
              <a:latin typeface="Calibri"/>
            </a:endParaRPr>
          </a:p>
        </p:txBody>
      </p:sp>
      <p:grpSp>
        <p:nvGrpSpPr>
          <p:cNvPr id="163" name="Group 19"/>
          <p:cNvGrpSpPr/>
          <p:nvPr/>
        </p:nvGrpSpPr>
        <p:grpSpPr>
          <a:xfrm>
            <a:off x="5533920" y="3244680"/>
            <a:ext cx="1281240" cy="1409760"/>
            <a:chOff x="5533920" y="3244680"/>
            <a:chExt cx="1281240" cy="1409760"/>
          </a:xfrm>
        </p:grpSpPr>
        <p:sp>
          <p:nvSpPr>
            <p:cNvPr id="164" name="Oval 3"/>
            <p:cNvSpPr/>
            <p:nvPr/>
          </p:nvSpPr>
          <p:spPr>
            <a:xfrm>
              <a:off x="5533920" y="3244680"/>
              <a:ext cx="1281240" cy="1409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4"/>
            <p:cNvSpPr/>
            <p:nvPr/>
          </p:nvSpPr>
          <p:spPr>
            <a:xfrm flipV="1">
              <a:off x="5716800" y="3244680"/>
              <a:ext cx="18288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5"/>
          <p:cNvSpPr/>
          <p:nvPr/>
        </p:nvSpPr>
        <p:spPr>
          <a:xfrm>
            <a:off x="1143000" y="2071800"/>
            <a:ext cx="182880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. Εισαγωγική ενότητ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887640" y="1643040"/>
            <a:ext cx="1828800" cy="13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2. Παρουσίαση πληροφορίας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(κείμενο, ήχος, εικόνες, βίντεο)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1143000" y="4991040"/>
            <a:ext cx="18288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6. Τέλος ενότητ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3703680" y="4991040"/>
            <a:ext cx="23796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Ανάδραση από το λογισμικό (θετική ή αρνητική)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ή πρόσθετες πληροφορί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6815160" y="4991040"/>
            <a:ext cx="18288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4. Έλεγχος απάντησης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(λογισμικ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2970360" y="25416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5716440" y="2541600"/>
            <a:ext cx="731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7729560" y="3009960"/>
            <a:ext cx="0" cy="1878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 flipH="1">
            <a:off x="6082920" y="5357880"/>
            <a:ext cx="731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4"/>
          <p:cNvSpPr/>
          <p:nvPr/>
        </p:nvSpPr>
        <p:spPr>
          <a:xfrm flipH="1">
            <a:off x="2971440" y="5357880"/>
            <a:ext cx="731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5"/>
          <p:cNvSpPr/>
          <p:nvPr/>
        </p:nvSpPr>
        <p:spPr>
          <a:xfrm flipV="1">
            <a:off x="4802040" y="3009600"/>
            <a:ext cx="0" cy="1878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5899320" y="3009960"/>
            <a:ext cx="73152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6448320" y="1714680"/>
            <a:ext cx="2195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ρώτηση</a:t>
            </a:r>
            <a:r>
              <a:rPr b="1" lang="el-GR" sz="1800" spc="-1" strike="noStrike">
                <a:solidFill>
                  <a:srgbClr val="000000"/>
                </a:solidFill>
                <a:latin typeface="Calibri"/>
              </a:rPr>
              <a:t> πάνω στην πληροφορία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λογισμικό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1" lang="el-GR" sz="18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πάντηση 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el-GR" sz="1800" spc="-1" strike="noStrike">
                <a:solidFill>
                  <a:srgbClr val="ff0000"/>
                </a:solidFill>
                <a:latin typeface="Calibri"/>
              </a:rPr>
              <a:t>μαθητής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000080" y="1714320"/>
            <a:ext cx="7934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Συστήματα εξάσκησης και διδασκαλίας με τη βοήθεια υπολογιστή ή καθοδηγούμενης από υπολογιστή διδασκαλία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Θεωρία μάθησης: </a:t>
            </a:r>
            <a:r>
              <a:rPr b="1" lang="el-GR" sz="2800" spc="-1" strike="noStrike">
                <a:solidFill>
                  <a:srgbClr val="ff0000"/>
                </a:solidFill>
                <a:latin typeface="Verdana"/>
              </a:rPr>
              <a:t>Συμπεριφορισμό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Διδακτικό μοντέλο: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Verdana"/>
              </a:rPr>
              <a:t>η γνώση μεταδίδετα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Ο υπολογιστής υποκαθιστά πλήρως ή εν μέρει το δάσκαλ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Το λογισμικό 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Verdana"/>
              </a:rPr>
              <a:t>επιβραβεύει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θετικά ή αρνητικά το μαθητή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e5e66"/>
                </a:solidFill>
                <a:latin typeface="Calibri"/>
              </a:rPr>
              <a:t>Εφαρμογή συμπεριφορισμού: Λογισμικά «κλειστού» τύπου (1)</a:t>
            </a:r>
            <a:endParaRPr b="1" lang="en-US" sz="3600" spc="-1" strike="noStrike">
              <a:solidFill>
                <a:srgbClr val="3e5e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09:08:13Z</dcterms:created>
  <dc:creator>Giannis</dc:creator>
  <dc:description/>
  <dc:language>en-US</dc:language>
  <cp:lastModifiedBy>user</cp:lastModifiedBy>
  <dcterms:modified xsi:type="dcterms:W3CDTF">2018-10-01T07:48:43Z</dcterms:modified>
  <cp:revision>17</cp:revision>
  <dc:subject/>
  <dc:title>Διδάσκοντας με τη βοήθεια επεξεργαστή κειμένου</dc:title>
</cp:coreProperties>
</file>